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D3C-423D-4895-AF7E-6DE69B6F3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AE2-10FA-4AEC-906B-B46AF2FADF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1DE2-9304-4196-BBAE-9B56E7BA724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28B-0E8C-4AB9-8045-208052B9C8B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980-AD51-49FF-84BC-CE85355A91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873-B9F1-4CB0-8350-43880B40ED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242-0C24-43F2-9615-45590B5117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91DB-57B8-4E08-8ACF-A206F09AEB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79AC-263C-4D54-B81A-F46D54F18C2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2D9F-BCDB-49EB-BAE4-AEC4E15ACA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E3E-9152-4DEA-8B1A-9D0D73B2CDB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DC9-DA30-47B4-80D8-C2B981539E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1A60-7647-4425-A383-69255D921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C0C-62AE-41F2-96DC-609337A0794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1011-1451-494E-8847-FC5ED31C59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7DD-B203-4D48-B72C-E5C52ED081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8C30-E9F9-420F-B8F6-BF285931E06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7F1A-1152-4044-A7AB-F2F06D8CE6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93FA-751B-4D51-843B-C10C64334E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D0BD-0857-4F7B-8F4F-0EC9896371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2B0B-B380-41B2-BFFE-FE100CFEDE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学者通用符号指令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操作系统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AC61-8CA0-4371-A904-A65858C784C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F06-C7F2-4B76-A7AF-FA3551300DC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9EB3-3911-4AD9-B9AA-971BB458E9B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A24B-6601-4B30-B33F-D07089CD85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0E1B-EE88-4C85-BD9E-A59380886EC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B2E-809D-4ACF-B248-42310E79A0C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67ED-1AE3-41A6-B93E-4E75201072A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B49-3496-4E59-AF76-D6A51193299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2D23-FA25-4C9B-9DC8-FA896B679E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DAC5-6FF3-497C-839C-281EC8E2707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8E40-C9DC-4C81-BF45-F5DC9B9686A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ADC-4A71-44B8-AAC7-F278F97626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A78A-F6FD-48DD-B748-002CAAC595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Title = 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水下俱乐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Width = 6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Height = 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BackgroundColor = ConsoleColor.Wh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ForegroundColor = ConsoleColor.Bl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Clea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输入一个字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i = Console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 Convert.ToChar(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您输入的字符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}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其码制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}", c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ReadKey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4F55-A676-47C2-AFF8-3F776A06D07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A05-F127-4393-9362-841CD0BBB95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假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。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1ACF-C40C-4686-959F-2D8455D45CA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=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b=‘ab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能力，逻辑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 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080C-8268-49DF-BC57-974B4E1AF8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BC31-6711-4774-A399-AD23C12F96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5B4-D113-4A5F-A13A-280EE4301D3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055-2C35-4BE6-BBC2-4A0193DBD8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5304-FA31-415C-A29A-571E5CF9A29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4ADB-A510-403A-B39F-F6D42989FA9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‘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dd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ED6-770D-471A-86A3-CAE1C963F5A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F255-39AA-4A53-914C-2D61613C69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3B40-A66F-4151-A20C-87E7F91935E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7605-444A-4B7E-8326-74AD5CEA90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9AB-6347-4E01-8020-93E1B711EE3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241-156F-454E-89DF-012E1237B8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BF39-1544-43DA-9D73-0F1C5006656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9E2D-FD24-4182-8331-C98D44D411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401-51E6-4EE7-9EE5-F8E531862C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5144-BE99-48EC-A346-6062B18801B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5F2-4BB2-4214-8CAB-6F734D6043F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C484-F6D4-4506-B8FF-034096F4D8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&gt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0/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5B44-5595-4308-8181-2AD1324606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98BC-0935-4FDC-9CB7-B12EAE1E6B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16D-E63A-4BCA-8762-7D35493855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8DC2-2A6A-45EA-88CE-E7300E7798E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B17F-DA6C-4540-8B99-C858863B6F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1EE-DC31-4963-ABA2-3B7EF49BC47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2099-CB04-4DC9-BEED-13FD27BA4D2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3FAB-D641-40BB-9C97-44CABCC936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18E9-CA0C-4B06-A2A4-BCD851B6F7A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057-9FB1-492D-8495-E99B3456607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对话框；解决方案管理器；类视图；“属性”窗口；工具箱；智能感知；使用帮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sdn.microsoft.com/zh-cn/library/system.console.backgroundcolor%28v=VS.80%29.aspx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msdn.microsoft.com/zh-cn/library/system.console.bufferheight%28v=VS.80%29.aspx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msdn.microsoft.com/zh-cn/library/system.console.bufferwidth%28v=VS.80%29.aspx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msdn.microsoft.com/zh-cn/library/system.console.capslock%28v=VS.80%29.aspx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msdn.microsoft.com/zh-cn/library/system.console.cursorleft%28v=VS.80%29.aspx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msdn.microsoft.com/zh-cn/library/system.console.cursorsize%28v=VS.80%29.aspx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msdn.microsoft.com/zh-cn/library/system.console.cursortop%28v=VS.80%29.aspx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msdn.microsoft.com/zh-cn/library/system.console.cursorvisible%28v=VS.80%29.aspx" TargetMode="External"/><Relationship Id="rId18" Type="http://schemas.openxmlformats.org/officeDocument/2006/relationships/image" Target="../media/image2.png"/><Relationship Id="rId19" Type="http://schemas.openxmlformats.org/officeDocument/2006/relationships/hyperlink" Target="http://msdn.microsoft.com/zh-cn/library/system.console.error%28v=VS.80%29.aspx" TargetMode="External"/><Relationship Id="rId20" Type="http://schemas.openxmlformats.org/officeDocument/2006/relationships/image" Target="../media/image2.png"/><Relationship Id="rId21" Type="http://schemas.openxmlformats.org/officeDocument/2006/relationships/hyperlink" Target="http://msdn.microsoft.com/zh-cn/library/system.console.foregroundcolor%28v=VS.80%29.aspx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msdn.microsoft.com/zh-cn/library/system.console.in%28v=VS.80%29.aspx" TargetMode="External"/><Relationship Id="rId24" Type="http://schemas.openxmlformats.org/officeDocument/2006/relationships/image" Target="../media/image2.png"/><Relationship Id="rId25" Type="http://schemas.openxmlformats.org/officeDocument/2006/relationships/hyperlink" Target="http://msdn.microsoft.com/zh-cn/library/system.console.inputencoding%28v=VS.80%29.aspx" TargetMode="External"/><Relationship Id="rId26" Type="http://schemas.openxmlformats.org/officeDocument/2006/relationships/image" Target="../media/image2.png"/><Relationship Id="rId27" Type="http://schemas.openxmlformats.org/officeDocument/2006/relationships/hyperlink" Target="http://msdn.microsoft.com/zh-cn/library/system.console.keyavailable%28v=VS.80%29.aspx" TargetMode="External"/><Relationship Id="rId28" Type="http://schemas.openxmlformats.org/officeDocument/2006/relationships/image" Target="../media/image2.png"/><Relationship Id="rId29" Type="http://schemas.openxmlformats.org/officeDocument/2006/relationships/hyperlink" Target="http://msdn.microsoft.com/zh-cn/library/system.console.largestwindowheight%28v=VS.80%29.aspx" TargetMode="External"/><Relationship Id="rId30" Type="http://schemas.openxmlformats.org/officeDocument/2006/relationships/image" Target="../media/image2.png"/><Relationship Id="rId31" Type="http://schemas.openxmlformats.org/officeDocument/2006/relationships/hyperlink" Target="http://msdn.microsoft.com/zh-cn/library/system.console.largestwindowwidth%28v=VS.80%29.aspx" TargetMode="External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slideLayout" Target="../slideLayouts/slideLayout3.xml"/><Relationship Id="rId4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范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fandixia0703@sjtu.edu.cn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9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树视图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解决方案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选择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多重选择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sln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下有多个项目或网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cs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B.N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vb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121840" y="1431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视图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lip_image002"/>
          <p:cNvPicPr/>
          <p:nvPr/>
        </p:nvPicPr>
        <p:blipFill>
          <a:blip r:embed="rId2"/>
          <a:stretch/>
        </p:blipFill>
        <p:spPr>
          <a:xfrm>
            <a:off x="3254400" y="2011320"/>
            <a:ext cx="20858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通过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添加新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21" name="Picture 7" descr="clip_image002"/>
          <p:cNvPicPr/>
          <p:nvPr/>
        </p:nvPicPr>
        <p:blipFill>
          <a:blip r:embed="rId3"/>
          <a:stretch/>
        </p:blipFill>
        <p:spPr>
          <a:xfrm>
            <a:off x="1500120" y="2084400"/>
            <a:ext cx="58374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04840" y="1292040"/>
            <a:ext cx="6750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在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中管理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从“类视图”中获得通常可用于“解决方案资源管理器”中符号的所有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类视图可以时方便快捷地查找某个类，某个功能模块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窗口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300760" y="139284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性”窗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lip_image002"/>
          <p:cNvPicPr/>
          <p:nvPr/>
        </p:nvPicPr>
        <p:blipFill>
          <a:blip r:embed="rId2"/>
          <a:stretch/>
        </p:blipFill>
        <p:spPr>
          <a:xfrm>
            <a:off x="1704960" y="1973160"/>
            <a:ext cx="2124000" cy="410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lip_image002"/>
          <p:cNvPicPr/>
          <p:nvPr/>
        </p:nvPicPr>
        <p:blipFill>
          <a:blip r:embed="rId3"/>
          <a:stretch/>
        </p:blipFill>
        <p:spPr>
          <a:xfrm>
            <a:off x="4408560" y="1973160"/>
            <a:ext cx="212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集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说明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口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2600" y="140580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”窗口从上至下总共分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部分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09920" y="1392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lip_image002"/>
          <p:cNvPicPr/>
          <p:nvPr/>
        </p:nvPicPr>
        <p:blipFill>
          <a:blip r:embed="rId2"/>
          <a:stretch/>
        </p:blipFill>
        <p:spPr>
          <a:xfrm>
            <a:off x="3025800" y="1973160"/>
            <a:ext cx="2352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312680" y="258840"/>
            <a:ext cx="6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116000" y="180504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”是一个浮动的树控件，它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源管理器的工作方式非常相似，但没有网格或连接线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116000" y="404352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可以添加到项目中的项的图标。每次返回编辑器或设计器时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都会自动滚动到最近选择过的选项卡和项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智能感知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226640" y="37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智能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16000" y="1805040"/>
            <a:ext cx="6477120" cy="3851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代码编写过程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供了智能感知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elliSens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功能，它是由集成开发环境提供的一种即时自动提示功能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机器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汇编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高级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使用帮助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170840" y="374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使用帮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92320" y="2050920"/>
            <a:ext cx="6067440" cy="1301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在安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时随之安装的本地帮助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这个帮助就是我们在安装时所选择的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192320" y="144792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帮助信息有两个基本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192320" y="3641760"/>
            <a:ext cx="6067440" cy="201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联机帮助。联机帮助是基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的，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 Online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新闻组及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.NET Code Wise Community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开发人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站点集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ww.msd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语言认识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基于过程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基本语法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变量，数据表达式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分支与循环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单片机编程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面向对象基本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高级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Winform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编程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GDI+——SQL——ADO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61196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目标</a:t>
            </a:r>
            <a:br>
              <a:rPr sz="3000"/>
            </a:b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学习目标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131840" y="25844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了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点和优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131840" y="3984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熟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集成开发环境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6360"/>
            <a:ext cx="3470400" cy="49536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特点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131840" y="2211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简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131840" y="30891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131840" y="396720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紧密结合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131840" y="48448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基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NET Framework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：绘制一个计算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8910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360" y="1747440"/>
            <a:ext cx="549288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编程步骤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应用程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码试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程序分析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000080" y="1858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来进行一些简单的开发 ，比如下面的界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lip_image002"/>
          <p:cNvPicPr/>
          <p:nvPr/>
        </p:nvPicPr>
        <p:blipFill>
          <a:blip r:embed="rId2"/>
          <a:stretch/>
        </p:blipFill>
        <p:spPr>
          <a:xfrm>
            <a:off x="1790640" y="2857680"/>
            <a:ext cx="5129280" cy="2496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539640" y="230040"/>
            <a:ext cx="4954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440" y="247320"/>
            <a:ext cx="878832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编程步骤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创建“欢迎”应用程序的</a:t>
            </a:r>
            <a:r>
              <a:rPr b="0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个基本步骤：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编程步骤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8"/>
          <p:cNvSpPr/>
          <p:nvPr/>
        </p:nvSpPr>
        <p:spPr>
          <a:xfrm>
            <a:off x="1066680" y="23954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一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9"/>
          <p:cNvSpPr/>
          <p:nvPr/>
        </p:nvSpPr>
        <p:spPr>
          <a:xfrm>
            <a:off x="1066680" y="353376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二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066680" y="48020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三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编译、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200" y="247320"/>
            <a:ext cx="477216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238400" y="2035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新项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238400" y="3583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界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70376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新项目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5880" y="1541520"/>
          <a:ext cx="7930800" cy="4085640"/>
        </p:xfrm>
        <a:graphic>
          <a:graphicData uri="http://schemas.openxmlformats.org/drawingml/2006/table">
            <a:tbl>
              <a:tblPr/>
              <a:tblGrid>
                <a:gridCol w="921960"/>
                <a:gridCol w="700884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启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 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</a:t>
                      </a:r>
                      <a:r>
                        <a:rPr b="0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件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菜单下，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新建”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→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命令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类型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选项组中，选择“ 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 C# 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名称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本框中，键入“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Welcome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确定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AutoShape 25"/>
          <p:cNvSpPr/>
          <p:nvPr/>
        </p:nvSpPr>
        <p:spPr>
          <a:xfrm>
            <a:off x="1000080" y="22860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000080" y="396252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1000080" y="48006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1000080" y="312408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Basic(Beginners' All-purpose Symbolic Instruction Code 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FORTRAN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（公式转化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科学计算运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数学科学计算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C/C++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、系统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网络程序、跨平台应用（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虚拟机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74720" y="1541520"/>
          <a:ext cx="7671960" cy="4085640"/>
        </p:xfrm>
        <a:graphic>
          <a:graphicData uri="http://schemas.openxmlformats.org/drawingml/2006/table">
            <a:tbl>
              <a:tblPr/>
              <a:tblGrid>
                <a:gridCol w="1099080"/>
                <a:gridCol w="657288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改变窗体文件名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标准工具栏的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，显示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对话框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AutoShape 25"/>
          <p:cNvSpPr/>
          <p:nvPr/>
        </p:nvSpPr>
        <p:spPr>
          <a:xfrm>
            <a:off x="1295280" y="22860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1295280" y="396252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295280" y="48006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1295280" y="312408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02720" y="150732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界面绘制完毕，结果如下图所示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2" descr="clip_image002"/>
          <p:cNvPicPr/>
          <p:nvPr/>
        </p:nvPicPr>
        <p:blipFill>
          <a:blip r:embed="rId2"/>
          <a:stretch/>
        </p:blipFill>
        <p:spPr>
          <a:xfrm>
            <a:off x="1538280" y="2314440"/>
            <a:ext cx="5429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主窗体属性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布局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127280" y="1652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应用程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950080" y="183960"/>
            <a:ext cx="20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Windows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58760" y="143316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行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lcome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clip_image002"/>
          <p:cNvPicPr/>
          <p:nvPr/>
        </p:nvPicPr>
        <p:blipFill>
          <a:blip r:embed="rId2"/>
          <a:stretch/>
        </p:blipFill>
        <p:spPr>
          <a:xfrm>
            <a:off x="1209600" y="2476440"/>
            <a:ext cx="53593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窗体和控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068480" y="1778040"/>
            <a:ext cx="6653160" cy="3376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窗体和控件都有各自的属性，它们一起构成了应用程序的可视化部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形用户界面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phic User Interfac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U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298280" y="29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代码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119600" y="143280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代码编辑模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878040" y="2077920"/>
            <a:ext cx="691344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0120" y="1541520"/>
            <a:ext cx="712944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中的窗体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都是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提供的类，被组织在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ystem.Windows.Form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名空间中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窗口里的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ex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ize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ackColor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等都是对象的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程序分析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754680" y="432720"/>
            <a:ext cx="13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.3.7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程序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4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主要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集成开发环境的构成，包括解决方案资源管理器、类视图、属性窗口做了简单的介绍。其中解决方案资源管理器的使用、类视图和属性窗口的使用都是后面学习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认识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(ID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：集成开发环境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不用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能写程序吗？嘿嘿嘿嘿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197840" y="3769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5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Practice_Splash"/>
          <p:cNvPicPr/>
          <p:nvPr/>
        </p:nvPicPr>
        <p:blipFill>
          <a:blip r:embed="rId2"/>
          <a:stretch/>
        </p:blipFill>
        <p:spPr>
          <a:xfrm>
            <a:off x="539640" y="1168560"/>
            <a:ext cx="1675080" cy="5155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/>
          <p:cNvSpPr/>
          <p:nvPr/>
        </p:nvSpPr>
        <p:spPr>
          <a:xfrm>
            <a:off x="2833560" y="2286000"/>
            <a:ext cx="5040360" cy="205740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3073320" y="2473200"/>
            <a:ext cx="4552920" cy="1683000"/>
          </a:xfrm>
          <a:prstGeom prst="roundRect">
            <a:avLst>
              <a:gd name="adj" fmla="val 7333"/>
            </a:avLst>
          </a:prstGeom>
          <a:gradFill rotWithShape="0">
            <a:gsLst>
              <a:gs pos="0">
                <a:srgbClr val="f0f1e1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绘制一个计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作业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熟悉一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环境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33984"/>
                </a:solidFill>
                <a:latin typeface="Arial"/>
              </a:rPr>
              <a:t>变量、数据类型和表达式</a:t>
            </a:r>
            <a:br>
              <a:rPr sz="3400"/>
            </a:br>
            <a:endParaRPr b="1" lang="en-US" sz="34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227" name="Picture 3" descr="2640_Intro_Splash copy"/>
          <p:cNvPicPr/>
          <p:nvPr/>
        </p:nvPicPr>
        <p:blipFill>
          <a:blip r:embed="rId2"/>
          <a:stretch/>
        </p:blipFill>
        <p:spPr>
          <a:xfrm>
            <a:off x="2189160" y="3697200"/>
            <a:ext cx="50418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onsol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直接写入字符串，不进行换行，可继续接着前面的字符写入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451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写入字符串后换行。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，不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后进行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Key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获取用户按下的下一个字符或功能键。按下的键显示在控制台窗口中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Beep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通过控制台扬声器播放提示音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Clear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清除控制台缓冲区和相应的控制台窗口的显示信息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1640" y="38052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ck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背景色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ffer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高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ffer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宽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apsLock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aps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ursorLef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列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ursorSiz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字符单元格中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ursorTop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行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ursorVisi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用以指示光标是否可见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rr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错误输出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Fore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前景色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入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nputEncoding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读取输入的编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KeyAvaila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按键操作在输入流中是否可用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LargestWindow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行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LargestWindow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列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ber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出流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putEncoding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写入输出的编码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itle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要显示在控制台标题栏中的标题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reatControlCAsInp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该值指示是将修改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ontrol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和控制台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的组合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(Ctrl+C)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视为普通输入，还是视为由操作系统处理的中断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Heigh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Lef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左边相对于屏幕缓冲区的位置。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Top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顶部相对于屏幕缓冲区的位置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Width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12560" y="2080800"/>
            <a:ext cx="63738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本章学习目标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声明并使用变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了解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的主要数据类型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理解值类型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使用表达式进行数学运算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掌握不同数据类型的转换方法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266760"/>
            <a:ext cx="8705880" cy="4744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目标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1285920" y="1798560"/>
            <a:ext cx="620532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346040" y="4735440"/>
            <a:ext cx="6167520" cy="998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554880" y="338040"/>
            <a:ext cx="155088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1346040" y="3198960"/>
            <a:ext cx="620568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随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7880" y="2370240"/>
            <a:ext cx="7170840" cy="31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为变量命名时要遵循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语言的命名规范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名只能由字母、数字和下划线组成，而不能包含空格、标点符号、运算符等其他符号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变量名不能与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中的关键字名称相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标识符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992920" y="766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语法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=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初始值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ntegrated Development Environmen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D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Delphi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urbo 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Borland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++ Builder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Studio:5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6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.NET(2002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3(.NET1.1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5(.NET2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8(.NET3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10(.NET4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32259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变量命名的一般建议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054080" y="3390840"/>
            <a:ext cx="6461280" cy="9619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应具有描述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1038240" y="4619520"/>
            <a:ext cx="639612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包含多个单词的变量名中，从第二个单词开始，每个单词都采取首字母大写的形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1038240" y="2276640"/>
            <a:ext cx="6461280" cy="920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最好以小写字母开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2654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变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071960" y="35712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923760" y="1582560"/>
            <a:ext cx="6685200" cy="41324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346040" y="1892160"/>
            <a:ext cx="5607360" cy="1382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使用原则：先声明，后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1384200" y="3851280"/>
            <a:ext cx="5748480" cy="1676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声明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类型  变量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1891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常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常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923760" y="1866960"/>
            <a:ext cx="6685200" cy="38480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386000" y="2508120"/>
            <a:ext cx="568296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定义：常量就是其值固定不变的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422360" y="4159080"/>
            <a:ext cx="566748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方法：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nst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  常量表达式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C# </a:t>
            </a: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数据类型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没有小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字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~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一个字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有小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范围大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范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精确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十进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ool:true,false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1" lang="zh-CN" sz="28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846000" y="1346040"/>
            <a:ext cx="222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2"/>
          <a:stretch/>
        </p:blipFill>
        <p:spPr>
          <a:xfrm>
            <a:off x="1268280" y="1930320"/>
            <a:ext cx="6220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引用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1268280" y="246852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268280" y="342900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接口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nterfac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引用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268280" y="1355760"/>
            <a:ext cx="610740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内存中不直接存储引用类型的数据，而是存储该数据的地址 。引用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1268280" y="438948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组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rra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268280" y="534996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串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ring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2876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607000" y="43092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8"/>
          <p:cNvSpPr/>
          <p:nvPr/>
        </p:nvSpPr>
        <p:spPr>
          <a:xfrm>
            <a:off x="1116000" y="1592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主要由简单类型、枚举类型和结构类型这三类组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20600" y="2490840"/>
          <a:ext cx="6739200" cy="3319560"/>
        </p:xfrm>
        <a:graphic>
          <a:graphicData uri="http://schemas.openxmlformats.org/drawingml/2006/table">
            <a:tbl>
              <a:tblPr/>
              <a:tblGrid>
                <a:gridCol w="1192320"/>
                <a:gridCol w="2247840"/>
                <a:gridCol w="3299040"/>
              </a:tblGrid>
              <a:tr h="36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简单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imple types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, short, int,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, ushort, uint, 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nicod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EE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浮点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,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值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枚举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E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结构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S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314360" y="1872720"/>
            <a:ext cx="561672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浮点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布尔类型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28321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简单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选项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对话框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解决方案资源管理器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类视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窗口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工具箱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智能感知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使用帮助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0000" y="333000"/>
            <a:ext cx="37450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开发环境简介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整数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8" name="Rectangle 60"/>
          <p:cNvSpPr/>
          <p:nvPr/>
        </p:nvSpPr>
        <p:spPr>
          <a:xfrm>
            <a:off x="1116000" y="11815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整数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85960" y="1816200"/>
          <a:ext cx="7065720" cy="4155840"/>
        </p:xfrm>
        <a:graphic>
          <a:graphicData uri="http://schemas.openxmlformats.org/drawingml/2006/table">
            <a:tbl>
              <a:tblPr/>
              <a:tblGrid>
                <a:gridCol w="1163520"/>
                <a:gridCol w="923760"/>
                <a:gridCol w="1044720"/>
                <a:gridCol w="393372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~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 768~32 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 147 483 648~2 147 483 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9 223 372 036 854 775 808~9 223 372 036 854 775 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4 294 967 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18 446 744 073 709 551 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浮点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1000080" y="14338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浮点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14560" y="2430360"/>
          <a:ext cx="6414840" cy="2649600"/>
        </p:xfrm>
        <a:graphic>
          <a:graphicData uri="http://schemas.openxmlformats.org/drawingml/2006/table">
            <a:tbl>
              <a:tblPr/>
              <a:tblGrid>
                <a:gridCol w="1520640"/>
                <a:gridCol w="1096920"/>
                <a:gridCol w="1309680"/>
                <a:gridCol w="248760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5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45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到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3.4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双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5.0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324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~1.7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0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79280"/>
            <a:ext cx="31510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38240" y="17420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十进制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01880" y="2779560"/>
          <a:ext cx="6949800" cy="1839960"/>
        </p:xfrm>
        <a:graphic>
          <a:graphicData uri="http://schemas.openxmlformats.org/drawingml/2006/table">
            <a:tbl>
              <a:tblPr/>
              <a:tblGrid>
                <a:gridCol w="1900080"/>
                <a:gridCol w="1362240"/>
                <a:gridCol w="1515960"/>
                <a:gridCol w="2171520"/>
              </a:tblGrid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0 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7.9  × 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29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470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布尔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7" name="Rectangle 60"/>
          <p:cNvSpPr/>
          <p:nvPr/>
        </p:nvSpPr>
        <p:spPr>
          <a:xfrm>
            <a:off x="1116000" y="1563480"/>
            <a:ext cx="68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布尔类型表示现实中的“真”或“假”这两个概念，主要用来进行逻辑判断。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分别采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这两个值来表示“真”和“假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3880" y="2941560"/>
          <a:ext cx="6037200" cy="2037960"/>
        </p:xfrm>
        <a:graphic>
          <a:graphicData uri="http://schemas.openxmlformats.org/drawingml/2006/table">
            <a:tbl>
              <a:tblPr/>
              <a:tblGrid>
                <a:gridCol w="1424880"/>
                <a:gridCol w="965520"/>
                <a:gridCol w="1424880"/>
                <a:gridCol w="2221920"/>
              </a:tblGrid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或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ure,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49320" y="1851480"/>
            <a:ext cx="70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类型采用国际上公认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cod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标准字符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6080" y="2905200"/>
          <a:ext cx="6554520" cy="2199960"/>
        </p:xfrm>
        <a:graphic>
          <a:graphicData uri="http://schemas.openxmlformats.org/drawingml/2006/table">
            <a:tbl>
              <a:tblPr/>
              <a:tblGrid>
                <a:gridCol w="1683000"/>
                <a:gridCol w="1296000"/>
                <a:gridCol w="1140840"/>
                <a:gridCol w="2434680"/>
              </a:tblGrid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范围内以双字节编码的任意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和表达式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338800" y="3121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和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80834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一个符号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代表一种运算操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分为三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131840" y="23050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一元运算符：      只使用一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1131840" y="35337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二元运算符：      使用两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131840" y="48020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三元运算符：       使用三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35000"/>
            <a:ext cx="34178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5205240" y="11160"/>
            <a:ext cx="297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的优先级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726920" y="1433880"/>
            <a:ext cx="264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从高到低的优先级顺序：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0120" y="1957320"/>
          <a:ext cx="7589520" cy="4128840"/>
        </p:xfrm>
        <a:graphic>
          <a:graphicData uri="http://schemas.openxmlformats.org/drawingml/2006/table">
            <a:tbl>
              <a:tblPr/>
              <a:tblGrid>
                <a:gridCol w="2306880"/>
                <a:gridCol w="5282640"/>
              </a:tblGrid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  算  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初级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.y, f(x), x+a[x], +, x--, new, typeof, checked, unchec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一元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, ~, ++, --, (T)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乘法、除法、取模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/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增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 ,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移位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&lt; , 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关系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 , &gt; , &lt;= , &gt;= , is,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等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 , !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异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?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赋值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, *= , /= , %= , += , -= , &lt;&lt;=, &gt;&gt;= , &amp;= , ^= , |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95400"/>
            <a:ext cx="49150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264200" y="13824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简单的赋值运算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214280" y="2942280"/>
            <a:ext cx="581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赋值就是给一个变量赋一个新值。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用于将等号右边的操作数（第二个操作数）的值赋给左边的操作数（第一个操作数）。表达式的结果是右边操作数的值，所以赋值操作可以串联在一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4341960" y="1522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4091040" y="143316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用于创建执行数学操作的表达式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01880" y="2328840"/>
          <a:ext cx="7146360" cy="3568320"/>
        </p:xfrm>
        <a:graphic>
          <a:graphicData uri="http://schemas.openxmlformats.org/drawingml/2006/table">
            <a:tbl>
              <a:tblPr/>
              <a:tblGrid>
                <a:gridCol w="1787040"/>
                <a:gridCol w="1787040"/>
                <a:gridCol w="1785240"/>
                <a:gridCol w="1787040"/>
              </a:tblGrid>
              <a:tr h="59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增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减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选项”对话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635480" y="1752480"/>
            <a:ext cx="2981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选项”对话框的布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应用选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所有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460520" y="161784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用于创建一个表达式，该表达式用来比较两个对象并返回布尔值。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95320" y="2660760"/>
          <a:ext cx="7211520" cy="3025440"/>
        </p:xfrm>
        <a:graphic>
          <a:graphicData uri="http://schemas.openxmlformats.org/drawingml/2006/table">
            <a:tbl>
              <a:tblPr/>
              <a:tblGrid>
                <a:gridCol w="1766160"/>
                <a:gridCol w="1829880"/>
                <a:gridCol w="1877400"/>
                <a:gridCol w="1738080"/>
              </a:tblGrid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460520" y="161712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和布尔型操作数一起组成了逻辑表达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42960" y="2394000"/>
          <a:ext cx="7546680" cy="3747600"/>
        </p:xfrm>
        <a:graphic>
          <a:graphicData uri="http://schemas.openxmlformats.org/drawingml/2006/table">
            <a:tbl>
              <a:tblPr/>
              <a:tblGrid>
                <a:gridCol w="1811160"/>
                <a:gridCol w="5735520"/>
              </a:tblGrid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NOT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就不必再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就算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还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成立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不再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无论左边是否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始终会执行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异或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380232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</a:t>
            </a:r>
            <a:br>
              <a:rPr sz="2400"/>
            </a:b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460520" y="161568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运算符与赋值表达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23760" y="2276640"/>
          <a:ext cx="6810480" cy="3687480"/>
        </p:xfrm>
        <a:graphic>
          <a:graphicData uri="http://schemas.openxmlformats.org/drawingml/2006/table">
            <a:tbl>
              <a:tblPr/>
              <a:tblGrid>
                <a:gridCol w="2811600"/>
                <a:gridCol w="3998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190520" y="2525760"/>
            <a:ext cx="6453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是唯一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操作数的运算符，所以有时又称为三元运算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条件表达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?x: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先计算条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然后进行判断。如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；否则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选项”对话框的布局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43344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2.1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选项对话框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lip_image002"/>
          <p:cNvPicPr/>
          <p:nvPr/>
        </p:nvPicPr>
        <p:blipFill>
          <a:blip r:embed="rId2"/>
          <a:stretch/>
        </p:blipFill>
        <p:spPr>
          <a:xfrm>
            <a:off x="1282680" y="1790640"/>
            <a:ext cx="5918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1524960" y="145296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决方案资源管理器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4" descr="clip_image002"/>
          <p:cNvPicPr/>
          <p:nvPr/>
        </p:nvPicPr>
        <p:blipFill>
          <a:blip r:embed="rId2"/>
          <a:stretch/>
        </p:blipFill>
        <p:spPr>
          <a:xfrm>
            <a:off x="3033720" y="1911240"/>
            <a:ext cx="25509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10-15T08:58:06Z</dcterms:modified>
  <cp:revision>24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